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C28C-651A-4F80-8E58-13405D35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3ED9-4C5E-4E85-BAAC-2D3A636C9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84C-A787-4EE6-8115-F5A10203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AA4-6DE4-4BFE-BB9A-831D5ED3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FF9-943F-4479-B532-E27F79BF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0D7-DD43-4FE7-9D3D-A0B94091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781-6D7D-4E52-A168-9D2D6382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149-3162-4026-845A-A81FF6A0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FFE-E524-4E5E-816B-73F5C723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7A1-5164-40E5-82F4-510F794A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95A-A472-44C1-B95A-75144FA2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7D2-907C-48BC-A476-4CF7D24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9B3-DDEC-4C84-AF40-93478493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DF0-4186-4C04-88EA-B453997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DFE7-615F-4DA4-9DB4-E667E41F6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abriella 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Click to show &quot;Polis Greece&quot; result 8"/>
          <p:cNvPicPr/>
          <p:nvPr/>
        </p:nvPicPr>
        <p:blipFill>
          <a:blip r:embed="rId1"/>
          <a:stretch/>
        </p:blipFill>
        <p:spPr>
          <a:xfrm>
            <a:off x="838080" y="2743200"/>
            <a:ext cx="7467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lick to show &quot;Philosphy Ancient Greece&quot; result 27"/>
          <p:cNvPicPr/>
          <p:nvPr/>
        </p:nvPicPr>
        <p:blipFill>
          <a:blip r:embed="rId1"/>
          <a:stretch/>
        </p:blipFill>
        <p:spPr>
          <a:xfrm>
            <a:off x="2819520" y="22860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lick to show &quot;Ancient Greece Peninsula &quot; result 1"/>
          <p:cNvPicPr/>
          <p:nvPr/>
        </p:nvPicPr>
        <p:blipFill>
          <a:blip r:embed="rId1"/>
          <a:stretch/>
        </p:blipFill>
        <p:spPr>
          <a:xfrm>
            <a:off x="2743200" y="3133800"/>
            <a:ext cx="5181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lick to show &quot;Ancient Greece Peloponnesian War&quot; result 15"/>
          <p:cNvPicPr/>
          <p:nvPr/>
        </p:nvPicPr>
        <p:blipFill>
          <a:blip r:embed="rId1"/>
          <a:stretch/>
        </p:blipFill>
        <p:spPr>
          <a:xfrm>
            <a:off x="2133720" y="2362320"/>
            <a:ext cx="518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lick to show &quot;Ancient Greece Oligarchy&quot; result 1"/>
          <p:cNvPicPr/>
          <p:nvPr/>
        </p:nvPicPr>
        <p:blipFill>
          <a:blip r:embed="rId1"/>
          <a:stretch/>
        </p:blipFill>
        <p:spPr>
          <a:xfrm>
            <a:off x="3200400" y="2819520"/>
            <a:ext cx="28195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lick to show &quot;Ancient Greece harbor&quot; result 13"/>
          <p:cNvPicPr/>
          <p:nvPr/>
        </p:nvPicPr>
        <p:blipFill>
          <a:blip r:embed="rId1"/>
          <a:stretch/>
        </p:blipFill>
        <p:spPr>
          <a:xfrm>
            <a:off x="1447920" y="2286000"/>
            <a:ext cx="616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lick to show &quot;Acropolis&quot; result 3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lick to show &quot;Agora-Ancient Greece&quot; result 22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lick to show &quot;Assembly-Ancient Greece&quot; result 3"/>
          <p:cNvPicPr/>
          <p:nvPr/>
        </p:nvPicPr>
        <p:blipFill>
          <a:blip r:embed="rId1"/>
          <a:stretch/>
        </p:blipFill>
        <p:spPr>
          <a:xfrm>
            <a:off x="0" y="3139920"/>
            <a:ext cx="91440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lick to show &quot;Citizen-Ancient Greece&quot; result 6"/>
          <p:cNvPicPr/>
          <p:nvPr/>
        </p:nvPicPr>
        <p:blipFill>
          <a:blip r:embed="rId1"/>
          <a:stretch/>
        </p:blipFill>
        <p:spPr>
          <a:xfrm>
            <a:off x="2819520" y="2612880"/>
            <a:ext cx="38098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lick to show &quot;Colony people-Ancient Greece&quot; result 24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lick to show &quot;Democracy-Ancient Greece&quot; result 1"/>
          <p:cNvPicPr/>
          <p:nvPr/>
        </p:nvPicPr>
        <p:blipFill>
          <a:blip r:embed="rId1"/>
          <a:stretch/>
        </p:blipFill>
        <p:spPr>
          <a:xfrm>
            <a:off x="0" y="2732040"/>
            <a:ext cx="91440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Click to show &quot;Jury+Ancient Greece&quot; result 16"/>
          <p:cNvPicPr/>
          <p:nvPr/>
        </p:nvPicPr>
        <p:blipFill>
          <a:blip r:embed="rId1"/>
          <a:stretch/>
        </p:blipFill>
        <p:spPr>
          <a:xfrm>
            <a:off x="533520" y="2687760"/>
            <a:ext cx="822960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Click to show &quot;Monarchy+Ancient Greece&quot; result 24"/>
          <p:cNvPicPr/>
          <p:nvPr/>
        </p:nvPicPr>
        <p:blipFill>
          <a:blip r:embed="rId1"/>
          <a:stretch/>
        </p:blipFill>
        <p:spPr>
          <a:xfrm>
            <a:off x="1143000" y="2362320"/>
            <a:ext cx="66675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03:43Z</dcterms:modified>
  <cp:revision>94</cp:revision>
  <dc:subject/>
  <dc:title>Ancient Greece</dc:title>
</cp:coreProperties>
</file>